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2040" cy="3601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960" rIns="9396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0" y="911808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84BF6A36-DE8A-4D74-AD0F-11BF3C59E6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18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BE7121F0-E8EE-444D-85B3-2AD6C9FE5F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20F6-A743-491E-A526-BBEF0BC51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8B1D-7931-4A97-A938-05FF96645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1514-3A77-4E70-BDD0-C74307C8C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3175-4BBE-49E2-A8C3-D8B454102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6EAC-2771-4146-B0EA-352BAA923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E3C8-639E-4319-AB7A-5930AD240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B90A-7C34-4B6B-B9DF-F4B3248A9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84B1-D22E-4BA1-830D-40AA99FEA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122D-E74F-499B-821F-E9B3901DA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77F0-6F9F-4432-8AFF-7AA147A22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2371-5D41-4E01-B9FC-DD63D0678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E60B-E3AE-46AD-8819-5E5845538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C5A0E-15D8-4318-9B72-11F706FF240B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5f55"/>
                </a:solidFill>
                <a:latin typeface="Tw Cen MT"/>
              </a:rPr>
              <a:t>The E-Learning Continuum – Time &amp; Place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380880" y="1981080"/>
          <a:ext cx="3124440" cy="1538280"/>
        </p:xfrm>
        <a:graphic>
          <a:graphicData uri="http://schemas.openxmlformats.org/drawingml/2006/table">
            <a:tbl>
              <a:tblPr/>
              <a:tblGrid>
                <a:gridCol w="3124440"/>
              </a:tblGrid>
              <a:tr h="42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0000"/>
                          </a:solidFill>
                          <a:latin typeface="Tw Cen MT"/>
                        </a:rPr>
                        <a:t>Same Time / Same Place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ddc3">
                        <a:alpha val="50000"/>
                      </a:srgbClr>
                    </a:solidFill>
                  </a:tcPr>
                </a:tc>
              </a:tr>
              <a:tr h="36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Multimedia Presentation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nimations and Simulation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Cognitive Learning Program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3" name="Group 62"/>
          <p:cNvGrpSpPr/>
          <p:nvPr/>
        </p:nvGrpSpPr>
        <p:grpSpPr>
          <a:xfrm>
            <a:off x="3048120" y="3124080"/>
            <a:ext cx="3045240" cy="1980720"/>
            <a:chOff x="3048120" y="3124080"/>
            <a:chExt cx="3045240" cy="1980720"/>
          </a:xfrm>
        </p:grpSpPr>
        <p:grpSp>
          <p:nvGrpSpPr>
            <p:cNvPr id="54" name="Group 63"/>
            <p:cNvGrpSpPr/>
            <p:nvPr/>
          </p:nvGrpSpPr>
          <p:grpSpPr>
            <a:xfrm>
              <a:off x="4822920" y="3305520"/>
              <a:ext cx="1270440" cy="1707840"/>
              <a:chOff x="4822920" y="3305520"/>
              <a:chExt cx="1270440" cy="1707840"/>
            </a:xfrm>
          </p:grpSpPr>
          <p:grpSp>
            <p:nvGrpSpPr>
              <p:cNvPr id="55" name="Group 64"/>
              <p:cNvGrpSpPr/>
              <p:nvPr/>
            </p:nvGrpSpPr>
            <p:grpSpPr>
              <a:xfrm>
                <a:off x="5306040" y="3305520"/>
                <a:ext cx="787320" cy="1379520"/>
                <a:chOff x="5306040" y="3305520"/>
                <a:chExt cx="787320" cy="1379520"/>
              </a:xfrm>
            </p:grpSpPr>
            <p:grpSp>
              <p:nvGrpSpPr>
                <p:cNvPr id="56" name="Group 65"/>
                <p:cNvGrpSpPr/>
                <p:nvPr/>
              </p:nvGrpSpPr>
              <p:grpSpPr>
                <a:xfrm>
                  <a:off x="5504040" y="3483000"/>
                  <a:ext cx="589320" cy="1019520"/>
                  <a:chOff x="5504040" y="3483000"/>
                  <a:chExt cx="589320" cy="1019520"/>
                </a:xfrm>
              </p:grpSpPr>
              <p:grpSp>
                <p:nvGrpSpPr>
                  <p:cNvPr id="57" name="Group 66"/>
                  <p:cNvGrpSpPr/>
                  <p:nvPr/>
                </p:nvGrpSpPr>
                <p:grpSpPr>
                  <a:xfrm>
                    <a:off x="5504040" y="3483000"/>
                    <a:ext cx="589320" cy="1019520"/>
                    <a:chOff x="5504040" y="3483000"/>
                    <a:chExt cx="589320" cy="1019520"/>
                  </a:xfrm>
                </p:grpSpPr>
                <p:grpSp>
                  <p:nvGrpSpPr>
                    <p:cNvPr id="58" name="Group 67"/>
                    <p:cNvGrpSpPr/>
                    <p:nvPr/>
                  </p:nvGrpSpPr>
                  <p:grpSpPr>
                    <a:xfrm>
                      <a:off x="5650560" y="3544560"/>
                      <a:ext cx="442800" cy="834480"/>
                      <a:chOff x="5650560" y="3544560"/>
                      <a:chExt cx="442800" cy="834480"/>
                    </a:xfrm>
                  </p:grpSpPr>
                  <p:grpSp>
                    <p:nvGrpSpPr>
                      <p:cNvPr id="59" name="Group 68"/>
                      <p:cNvGrpSpPr/>
                      <p:nvPr/>
                    </p:nvGrpSpPr>
                    <p:grpSpPr>
                      <a:xfrm>
                        <a:off x="5701680" y="3544560"/>
                        <a:ext cx="391680" cy="834480"/>
                        <a:chOff x="5701680" y="3544560"/>
                        <a:chExt cx="391680" cy="834480"/>
                      </a:xfrm>
                    </p:grpSpPr>
                    <p:sp>
                      <p:nvSpPr>
                        <p:cNvPr id="60" name="Oval 69"/>
                        <p:cNvSpPr/>
                        <p:nvPr/>
                      </p:nvSpPr>
                      <p:spPr>
                        <a:xfrm>
                          <a:off x="5899320" y="4022640"/>
                          <a:ext cx="194040" cy="23904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64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1" name="Oval 70"/>
                        <p:cNvSpPr/>
                        <p:nvPr/>
                      </p:nvSpPr>
                      <p:spPr>
                        <a:xfrm>
                          <a:off x="5750640" y="4082400"/>
                          <a:ext cx="243720" cy="29664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64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2" name="Oval 71"/>
                        <p:cNvSpPr/>
                        <p:nvPr/>
                      </p:nvSpPr>
                      <p:spPr>
                        <a:xfrm>
                          <a:off x="5848200" y="3723840"/>
                          <a:ext cx="195480" cy="23688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64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Oval 72"/>
                        <p:cNvSpPr/>
                        <p:nvPr/>
                      </p:nvSpPr>
                      <p:spPr>
                        <a:xfrm>
                          <a:off x="5701680" y="3544560"/>
                          <a:ext cx="246960" cy="29916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64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Freeform 73"/>
                        <p:cNvSpPr/>
                        <p:nvPr/>
                      </p:nvSpPr>
                      <p:spPr>
                        <a:xfrm>
                          <a:off x="5854680" y="3728160"/>
                          <a:ext cx="167760" cy="478080"/>
                        </a:xfrm>
                        <a:custGeom>
                          <a:avLst/>
                          <a:gdLst>
                            <a:gd name="textAreaLeft" fmla="*/ 0 w 167760"/>
                            <a:gd name="textAreaRight" fmla="*/ 168120 w 167760"/>
                            <a:gd name="textAreaTop" fmla="*/ 0 h 478080"/>
                            <a:gd name="textAreaBottom" fmla="*/ 478440 h 478080"/>
                          </a:gdLst>
                          <a:ahLst/>
                          <a:rect l="textAreaLeft" t="textAreaTop" r="textAreaRight" b="textAreaBottom"/>
                          <a:pathLst>
                            <a:path w="191" h="463">
                              <a:moveTo>
                                <a:pt x="191" y="459"/>
                              </a:moveTo>
                              <a:lnTo>
                                <a:pt x="112" y="463"/>
                              </a:lnTo>
                              <a:lnTo>
                                <a:pt x="0" y="0"/>
                              </a:lnTo>
                              <a:lnTo>
                                <a:pt x="119" y="36"/>
                              </a:lnTo>
                              <a:lnTo>
                                <a:pt x="122" y="263"/>
                              </a:lnTo>
                              <a:lnTo>
                                <a:pt x="191" y="459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65" name="Oval 74"/>
                      <p:cNvSpPr/>
                      <p:nvPr/>
                    </p:nvSpPr>
                    <p:spPr>
                      <a:xfrm>
                        <a:off x="5650560" y="3783960"/>
                        <a:ext cx="345960" cy="41832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64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6" name="Oval 75"/>
                      <p:cNvSpPr/>
                      <p:nvPr/>
                    </p:nvSpPr>
                    <p:spPr>
                      <a:xfrm>
                        <a:off x="5650560" y="4023000"/>
                        <a:ext cx="246960" cy="29916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64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7" name="Freeform 76"/>
                      <p:cNvSpPr/>
                      <p:nvPr/>
                    </p:nvSpPr>
                    <p:spPr>
                      <a:xfrm>
                        <a:off x="5726520" y="3676680"/>
                        <a:ext cx="176400" cy="513360"/>
                      </a:xfrm>
                      <a:custGeom>
                        <a:avLst/>
                        <a:gdLst>
                          <a:gd name="textAreaLeft" fmla="*/ 0 w 176400"/>
                          <a:gd name="textAreaRight" fmla="*/ 176760 w 176400"/>
                          <a:gd name="textAreaTop" fmla="*/ 0 h 513360"/>
                          <a:gd name="textAreaBottom" fmla="*/ 513720 h 513360"/>
                        </a:gdLst>
                        <a:ahLst/>
                        <a:rect l="textAreaLeft" t="textAreaTop" r="textAreaRight" b="textAreaBottom"/>
                        <a:pathLst>
                          <a:path w="200" h="499">
                            <a:moveTo>
                              <a:pt x="181" y="85"/>
                            </a:moveTo>
                            <a:lnTo>
                              <a:pt x="159" y="191"/>
                            </a:lnTo>
                            <a:lnTo>
                              <a:pt x="200" y="432"/>
                            </a:lnTo>
                            <a:lnTo>
                              <a:pt x="120" y="499"/>
                            </a:lnTo>
                            <a:lnTo>
                              <a:pt x="0" y="211"/>
                            </a:lnTo>
                            <a:lnTo>
                              <a:pt x="96" y="0"/>
                            </a:lnTo>
                            <a:lnTo>
                              <a:pt x="181" y="85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68" name="Oval 77"/>
                    <p:cNvSpPr/>
                    <p:nvPr/>
                  </p:nvSpPr>
                  <p:spPr>
                    <a:xfrm>
                      <a:off x="5650560" y="4263120"/>
                      <a:ext cx="195840" cy="2394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" name="Oval 78"/>
                    <p:cNvSpPr/>
                    <p:nvPr/>
                  </p:nvSpPr>
                  <p:spPr>
                    <a:xfrm>
                      <a:off x="5504040" y="3483000"/>
                      <a:ext cx="246960" cy="3013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" name="Freeform 79"/>
                    <p:cNvSpPr/>
                    <p:nvPr/>
                  </p:nvSpPr>
                  <p:spPr>
                    <a:xfrm>
                      <a:off x="5710680" y="4215600"/>
                      <a:ext cx="130320" cy="106920"/>
                    </a:xfrm>
                    <a:custGeom>
                      <a:avLst/>
                      <a:gdLst>
                        <a:gd name="textAreaLeft" fmla="*/ 0 w 130320"/>
                        <a:gd name="textAreaRight" fmla="*/ 130680 w 130320"/>
                        <a:gd name="textAreaTop" fmla="*/ 0 h 106920"/>
                        <a:gd name="textAreaBottom" fmla="*/ 107280 h 106920"/>
                      </a:gdLst>
                      <a:ahLst/>
                      <a:rect l="textAreaLeft" t="textAreaTop" r="textAreaRight" b="textAreaBottom"/>
                      <a:pathLst>
                        <a:path w="148" h="103">
                          <a:moveTo>
                            <a:pt x="148" y="64"/>
                          </a:moveTo>
                          <a:lnTo>
                            <a:pt x="103" y="103"/>
                          </a:lnTo>
                          <a:lnTo>
                            <a:pt x="0" y="51"/>
                          </a:lnTo>
                          <a:lnTo>
                            <a:pt x="103" y="0"/>
                          </a:lnTo>
                          <a:lnTo>
                            <a:pt x="148" y="64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1" name="Freeform 80"/>
                  <p:cNvSpPr/>
                  <p:nvPr/>
                </p:nvSpPr>
                <p:spPr>
                  <a:xfrm>
                    <a:off x="5691240" y="3621240"/>
                    <a:ext cx="79560" cy="168840"/>
                  </a:xfrm>
                  <a:custGeom>
                    <a:avLst/>
                    <a:gdLst>
                      <a:gd name="textAreaLeft" fmla="*/ 0 w 79560"/>
                      <a:gd name="textAreaRight" fmla="*/ 79920 w 79560"/>
                      <a:gd name="textAreaTop" fmla="*/ 0 h 168840"/>
                      <a:gd name="textAreaBottom" fmla="*/ 169200 h 168840"/>
                    </a:gdLst>
                    <a:ahLst/>
                    <a:rect l="textAreaLeft" t="textAreaTop" r="textAreaRight" b="textAreaBottom"/>
                    <a:pathLst>
                      <a:path w="89" h="164">
                        <a:moveTo>
                          <a:pt x="46" y="0"/>
                        </a:moveTo>
                        <a:lnTo>
                          <a:pt x="89" y="3"/>
                        </a:lnTo>
                        <a:lnTo>
                          <a:pt x="71" y="164"/>
                        </a:lnTo>
                        <a:lnTo>
                          <a:pt x="0" y="133"/>
                        </a:lnTo>
                        <a:lnTo>
                          <a:pt x="46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Group 81"/>
                <p:cNvGrpSpPr/>
                <p:nvPr/>
              </p:nvGrpSpPr>
              <p:grpSpPr>
                <a:xfrm>
                  <a:off x="5306040" y="3305520"/>
                  <a:ext cx="540720" cy="1257120"/>
                  <a:chOff x="5306040" y="3305520"/>
                  <a:chExt cx="540720" cy="1257120"/>
                </a:xfrm>
              </p:grpSpPr>
              <p:sp>
                <p:nvSpPr>
                  <p:cNvPr id="73" name="Oval 82"/>
                  <p:cNvSpPr/>
                  <p:nvPr/>
                </p:nvSpPr>
                <p:spPr>
                  <a:xfrm>
                    <a:off x="5355720" y="4023720"/>
                    <a:ext cx="443520" cy="538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Oval 83"/>
                  <p:cNvSpPr/>
                  <p:nvPr/>
                </p:nvSpPr>
                <p:spPr>
                  <a:xfrm>
                    <a:off x="5405040" y="3662640"/>
                    <a:ext cx="441720" cy="5407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Oval 84"/>
                  <p:cNvSpPr/>
                  <p:nvPr/>
                </p:nvSpPr>
                <p:spPr>
                  <a:xfrm>
                    <a:off x="5306040" y="3305520"/>
                    <a:ext cx="346320" cy="4190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Oval 85"/>
                  <p:cNvSpPr/>
                  <p:nvPr/>
                </p:nvSpPr>
                <p:spPr>
                  <a:xfrm>
                    <a:off x="5504040" y="3544560"/>
                    <a:ext cx="195840" cy="2376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Freeform 86"/>
                  <p:cNvSpPr/>
                  <p:nvPr/>
                </p:nvSpPr>
                <p:spPr>
                  <a:xfrm>
                    <a:off x="5406480" y="3503520"/>
                    <a:ext cx="300600" cy="468720"/>
                  </a:xfrm>
                  <a:custGeom>
                    <a:avLst/>
                    <a:gdLst>
                      <a:gd name="textAreaLeft" fmla="*/ 0 w 300600"/>
                      <a:gd name="textAreaRight" fmla="*/ 300960 w 300600"/>
                      <a:gd name="textAreaTop" fmla="*/ 0 h 468720"/>
                      <a:gd name="textAreaBottom" fmla="*/ 469080 h 468720"/>
                    </a:gdLst>
                    <a:ahLst/>
                    <a:rect l="textAreaLeft" t="textAreaTop" r="textAreaRight" b="textAreaBottom"/>
                    <a:pathLst>
                      <a:path w="338" h="452">
                        <a:moveTo>
                          <a:pt x="240" y="18"/>
                        </a:moveTo>
                        <a:lnTo>
                          <a:pt x="236" y="72"/>
                        </a:lnTo>
                        <a:lnTo>
                          <a:pt x="317" y="172"/>
                        </a:lnTo>
                        <a:lnTo>
                          <a:pt x="338" y="183"/>
                        </a:lnTo>
                        <a:lnTo>
                          <a:pt x="219" y="452"/>
                        </a:lnTo>
                        <a:lnTo>
                          <a:pt x="0" y="0"/>
                        </a:lnTo>
                        <a:lnTo>
                          <a:pt x="240" y="18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" name="Freeform 87"/>
                  <p:cNvSpPr/>
                  <p:nvPr/>
                </p:nvSpPr>
                <p:spPr>
                  <a:xfrm>
                    <a:off x="5546520" y="4127040"/>
                    <a:ext cx="195840" cy="140400"/>
                  </a:xfrm>
                  <a:custGeom>
                    <a:avLst/>
                    <a:gdLst>
                      <a:gd name="textAreaLeft" fmla="*/ 0 w 195840"/>
                      <a:gd name="textAreaRight" fmla="*/ 196200 w 195840"/>
                      <a:gd name="textAreaTop" fmla="*/ 0 h 140400"/>
                      <a:gd name="textAreaBottom" fmla="*/ 140760 h 140400"/>
                    </a:gdLst>
                    <a:ahLst/>
                    <a:rect l="textAreaLeft" t="textAreaTop" r="textAreaRight" b="textAreaBottom"/>
                    <a:pathLst>
                      <a:path w="221" h="137">
                        <a:moveTo>
                          <a:pt x="197" y="18"/>
                        </a:moveTo>
                        <a:lnTo>
                          <a:pt x="221" y="60"/>
                        </a:lnTo>
                        <a:lnTo>
                          <a:pt x="0" y="137"/>
                        </a:lnTo>
                        <a:lnTo>
                          <a:pt x="6" y="0"/>
                        </a:lnTo>
                        <a:lnTo>
                          <a:pt x="197" y="18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9" name="Oval 88"/>
                <p:cNvSpPr/>
                <p:nvPr/>
              </p:nvSpPr>
              <p:spPr>
                <a:xfrm>
                  <a:off x="5306040" y="4385520"/>
                  <a:ext cx="247320" cy="299520"/>
                </a:xfrm>
                <a:prstGeom prst="ellipse">
                  <a:avLst/>
                </a:prstGeom>
                <a:solidFill>
                  <a:srgbClr val="ffffff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Freeform 89"/>
                <p:cNvSpPr/>
                <p:nvPr/>
              </p:nvSpPr>
              <p:spPr>
                <a:xfrm>
                  <a:off x="5463360" y="4358520"/>
                  <a:ext cx="134280" cy="162720"/>
                </a:xfrm>
                <a:custGeom>
                  <a:avLst/>
                  <a:gdLst>
                    <a:gd name="textAreaLeft" fmla="*/ 0 w 134280"/>
                    <a:gd name="textAreaRight" fmla="*/ 134640 w 134280"/>
                    <a:gd name="textAreaTop" fmla="*/ 0 h 162720"/>
                    <a:gd name="textAreaBottom" fmla="*/ 163080 h 162720"/>
                  </a:gdLst>
                  <a:ahLst/>
                  <a:rect l="textAreaLeft" t="textAreaTop" r="textAreaRight" b="textAreaBottom"/>
                  <a:pathLst>
                    <a:path w="152" h="158">
                      <a:moveTo>
                        <a:pt x="62" y="158"/>
                      </a:moveTo>
                      <a:lnTo>
                        <a:pt x="152" y="104"/>
                      </a:lnTo>
                      <a:lnTo>
                        <a:pt x="48" y="0"/>
                      </a:lnTo>
                      <a:lnTo>
                        <a:pt x="0" y="57"/>
                      </a:lnTo>
                      <a:lnTo>
                        <a:pt x="62" y="15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" name="Oval 90"/>
              <p:cNvSpPr/>
              <p:nvPr/>
            </p:nvSpPr>
            <p:spPr>
              <a:xfrm>
                <a:off x="4822920" y="4656240"/>
                <a:ext cx="295560" cy="357120"/>
              </a:xfrm>
              <a:prstGeom prst="ellipse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Oval 91"/>
              <p:cNvSpPr/>
              <p:nvPr/>
            </p:nvSpPr>
            <p:spPr>
              <a:xfrm>
                <a:off x="5058360" y="4656240"/>
                <a:ext cx="247320" cy="299160"/>
              </a:xfrm>
              <a:prstGeom prst="ellipse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Oval 92"/>
              <p:cNvSpPr/>
              <p:nvPr/>
            </p:nvSpPr>
            <p:spPr>
              <a:xfrm>
                <a:off x="5194440" y="4556880"/>
                <a:ext cx="245880" cy="301680"/>
              </a:xfrm>
              <a:prstGeom prst="ellipse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Freeform 93"/>
              <p:cNvSpPr/>
              <p:nvPr/>
            </p:nvSpPr>
            <p:spPr>
              <a:xfrm>
                <a:off x="4999680" y="4517640"/>
                <a:ext cx="481320" cy="396720"/>
              </a:xfrm>
              <a:custGeom>
                <a:avLst/>
                <a:gdLst>
                  <a:gd name="textAreaLeft" fmla="*/ 0 w 481320"/>
                  <a:gd name="textAreaRight" fmla="*/ 481680 w 481320"/>
                  <a:gd name="textAreaTop" fmla="*/ 0 h 396720"/>
                  <a:gd name="textAreaBottom" fmla="*/ 397080 h 396720"/>
                </a:gdLst>
                <a:ahLst/>
                <a:rect l="textAreaLeft" t="textAreaTop" r="textAreaRight" b="textAreaBottom"/>
                <a:pathLst>
                  <a:path w="542" h="383">
                    <a:moveTo>
                      <a:pt x="505" y="111"/>
                    </a:moveTo>
                    <a:lnTo>
                      <a:pt x="455" y="137"/>
                    </a:lnTo>
                    <a:lnTo>
                      <a:pt x="309" y="289"/>
                    </a:lnTo>
                    <a:lnTo>
                      <a:pt x="275" y="353"/>
                    </a:lnTo>
                    <a:lnTo>
                      <a:pt x="114" y="353"/>
                    </a:lnTo>
                    <a:lnTo>
                      <a:pt x="79" y="383"/>
                    </a:lnTo>
                    <a:lnTo>
                      <a:pt x="0" y="271"/>
                    </a:lnTo>
                    <a:lnTo>
                      <a:pt x="367" y="0"/>
                    </a:lnTo>
                    <a:lnTo>
                      <a:pt x="542" y="62"/>
                    </a:lnTo>
                    <a:lnTo>
                      <a:pt x="505" y="11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" name="Group 94"/>
            <p:cNvGrpSpPr/>
            <p:nvPr/>
          </p:nvGrpSpPr>
          <p:grpSpPr>
            <a:xfrm>
              <a:off x="3048120" y="3315960"/>
              <a:ext cx="770760" cy="1189080"/>
              <a:chOff x="3048120" y="3315960"/>
              <a:chExt cx="770760" cy="1189080"/>
            </a:xfrm>
          </p:grpSpPr>
          <p:grpSp>
            <p:nvGrpSpPr>
              <p:cNvPr id="86" name="Group 95"/>
              <p:cNvGrpSpPr/>
              <p:nvPr/>
            </p:nvGrpSpPr>
            <p:grpSpPr>
              <a:xfrm>
                <a:off x="3048120" y="3483000"/>
                <a:ext cx="424440" cy="722520"/>
                <a:chOff x="3048120" y="3483000"/>
                <a:chExt cx="424440" cy="722520"/>
              </a:xfrm>
            </p:grpSpPr>
            <p:sp>
              <p:nvSpPr>
                <p:cNvPr id="87" name="Oval 96"/>
                <p:cNvSpPr/>
                <p:nvPr/>
              </p:nvSpPr>
              <p:spPr>
                <a:xfrm>
                  <a:off x="3048120" y="3724200"/>
                  <a:ext cx="196200" cy="237240"/>
                </a:xfrm>
                <a:prstGeom prst="ellipse">
                  <a:avLst/>
                </a:prstGeom>
                <a:solidFill>
                  <a:srgbClr val="ffffff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Oval 97"/>
                <p:cNvSpPr/>
                <p:nvPr/>
              </p:nvSpPr>
              <p:spPr>
                <a:xfrm>
                  <a:off x="3080160" y="3904200"/>
                  <a:ext cx="245520" cy="301320"/>
                </a:xfrm>
                <a:prstGeom prst="ellipse">
                  <a:avLst/>
                </a:prstGeom>
                <a:solidFill>
                  <a:srgbClr val="ffffff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Oval 98"/>
                <p:cNvSpPr/>
                <p:nvPr/>
              </p:nvSpPr>
              <p:spPr>
                <a:xfrm>
                  <a:off x="3127680" y="3483000"/>
                  <a:ext cx="344880" cy="421200"/>
                </a:xfrm>
                <a:prstGeom prst="ellipse">
                  <a:avLst/>
                </a:prstGeom>
                <a:solidFill>
                  <a:srgbClr val="ffffff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Freeform 99"/>
                <p:cNvSpPr/>
                <p:nvPr/>
              </p:nvSpPr>
              <p:spPr>
                <a:xfrm>
                  <a:off x="3108240" y="3755160"/>
                  <a:ext cx="128880" cy="229320"/>
                </a:xfrm>
                <a:custGeom>
                  <a:avLst/>
                  <a:gdLst>
                    <a:gd name="textAreaLeft" fmla="*/ 0 w 128880"/>
                    <a:gd name="textAreaRight" fmla="*/ 129240 w 128880"/>
                    <a:gd name="textAreaTop" fmla="*/ 0 h 229320"/>
                    <a:gd name="textAreaBottom" fmla="*/ 229680 h 229320"/>
                  </a:gdLst>
                  <a:ahLst/>
                  <a:rect l="textAreaLeft" t="textAreaTop" r="textAreaRight" b="textAreaBottom"/>
                  <a:pathLst>
                    <a:path w="147" h="223">
                      <a:moveTo>
                        <a:pt x="85" y="0"/>
                      </a:moveTo>
                      <a:lnTo>
                        <a:pt x="0" y="44"/>
                      </a:lnTo>
                      <a:lnTo>
                        <a:pt x="3" y="179"/>
                      </a:lnTo>
                      <a:lnTo>
                        <a:pt x="31" y="223"/>
                      </a:lnTo>
                      <a:lnTo>
                        <a:pt x="147" y="179"/>
                      </a:lnTo>
                      <a:lnTo>
                        <a:pt x="85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" name="Group 100"/>
              <p:cNvGrpSpPr/>
              <p:nvPr/>
            </p:nvGrpSpPr>
            <p:grpSpPr>
              <a:xfrm>
                <a:off x="3177000" y="3315960"/>
                <a:ext cx="641880" cy="1189080"/>
                <a:chOff x="3177000" y="3315960"/>
                <a:chExt cx="641880" cy="1189080"/>
              </a:xfrm>
            </p:grpSpPr>
            <p:sp>
              <p:nvSpPr>
                <p:cNvPr id="92" name="Oval 101"/>
                <p:cNvSpPr/>
                <p:nvPr/>
              </p:nvSpPr>
              <p:spPr>
                <a:xfrm>
                  <a:off x="3375000" y="3363120"/>
                  <a:ext cx="443880" cy="541080"/>
                </a:xfrm>
                <a:prstGeom prst="ellipse">
                  <a:avLst/>
                </a:prstGeom>
                <a:solidFill>
                  <a:srgbClr val="ffffff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" name="Oval 102"/>
                <p:cNvSpPr/>
                <p:nvPr/>
              </p:nvSpPr>
              <p:spPr>
                <a:xfrm>
                  <a:off x="3177000" y="3724560"/>
                  <a:ext cx="247680" cy="299160"/>
                </a:xfrm>
                <a:prstGeom prst="ellipse">
                  <a:avLst/>
                </a:prstGeom>
                <a:solidFill>
                  <a:srgbClr val="ffffff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Oval 103"/>
                <p:cNvSpPr/>
                <p:nvPr/>
              </p:nvSpPr>
              <p:spPr>
                <a:xfrm>
                  <a:off x="3226680" y="3904200"/>
                  <a:ext cx="346320" cy="419040"/>
                </a:xfrm>
                <a:prstGeom prst="ellipse">
                  <a:avLst/>
                </a:prstGeom>
                <a:solidFill>
                  <a:srgbClr val="ffffff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Oval 104"/>
                <p:cNvSpPr/>
                <p:nvPr/>
              </p:nvSpPr>
              <p:spPr>
                <a:xfrm>
                  <a:off x="3325680" y="4083840"/>
                  <a:ext cx="346320" cy="421200"/>
                </a:xfrm>
                <a:prstGeom prst="ellipse">
                  <a:avLst/>
                </a:prstGeom>
                <a:solidFill>
                  <a:srgbClr val="ffffff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Oval 105"/>
                <p:cNvSpPr/>
                <p:nvPr/>
              </p:nvSpPr>
              <p:spPr>
                <a:xfrm>
                  <a:off x="3350160" y="3612960"/>
                  <a:ext cx="309600" cy="365040"/>
                </a:xfrm>
                <a:prstGeom prst="ellipse">
                  <a:avLst/>
                </a:prstGeom>
                <a:solidFill>
                  <a:srgbClr val="ffffff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" name="Oval 106"/>
                <p:cNvSpPr/>
                <p:nvPr/>
              </p:nvSpPr>
              <p:spPr>
                <a:xfrm>
                  <a:off x="3597840" y="3315960"/>
                  <a:ext cx="195840" cy="237240"/>
                </a:xfrm>
                <a:prstGeom prst="ellipse">
                  <a:avLst/>
                </a:prstGeom>
                <a:solidFill>
                  <a:srgbClr val="ffffff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Freeform 107"/>
                <p:cNvSpPr/>
                <p:nvPr/>
              </p:nvSpPr>
              <p:spPr>
                <a:xfrm>
                  <a:off x="3445560" y="3548880"/>
                  <a:ext cx="219240" cy="190080"/>
                </a:xfrm>
                <a:custGeom>
                  <a:avLst/>
                  <a:gdLst>
                    <a:gd name="textAreaLeft" fmla="*/ 0 w 219240"/>
                    <a:gd name="textAreaRight" fmla="*/ 219600 w 219240"/>
                    <a:gd name="textAreaTop" fmla="*/ 0 h 190080"/>
                    <a:gd name="textAreaBottom" fmla="*/ 190440 h 190080"/>
                  </a:gdLst>
                  <a:ahLst/>
                  <a:rect l="textAreaLeft" t="textAreaTop" r="textAreaRight" b="textAreaBottom"/>
                  <a:pathLst>
                    <a:path w="247" h="184">
                      <a:moveTo>
                        <a:pt x="0" y="50"/>
                      </a:moveTo>
                      <a:lnTo>
                        <a:pt x="32" y="137"/>
                      </a:lnTo>
                      <a:lnTo>
                        <a:pt x="247" y="184"/>
                      </a:lnTo>
                      <a:lnTo>
                        <a:pt x="247" y="68"/>
                      </a:lnTo>
                      <a:lnTo>
                        <a:pt x="15" y="0"/>
                      </a:lnTo>
                      <a:lnTo>
                        <a:pt x="0" y="5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Freeform 108"/>
                <p:cNvSpPr/>
                <p:nvPr/>
              </p:nvSpPr>
              <p:spPr>
                <a:xfrm>
                  <a:off x="3245760" y="3856680"/>
                  <a:ext cx="249480" cy="36972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369720"/>
                    <a:gd name="textAreaBottom" fmla="*/ 370080 h 369720"/>
                  </a:gdLst>
                  <a:ahLst/>
                  <a:rect l="textAreaLeft" t="textAreaTop" r="textAreaRight" b="textAreaBottom"/>
                  <a:pathLst>
                    <a:path w="281" h="358">
                      <a:moveTo>
                        <a:pt x="174" y="0"/>
                      </a:moveTo>
                      <a:lnTo>
                        <a:pt x="0" y="90"/>
                      </a:lnTo>
                      <a:lnTo>
                        <a:pt x="72" y="162"/>
                      </a:lnTo>
                      <a:lnTo>
                        <a:pt x="83" y="336"/>
                      </a:lnTo>
                      <a:lnTo>
                        <a:pt x="125" y="358"/>
                      </a:lnTo>
                      <a:lnTo>
                        <a:pt x="271" y="246"/>
                      </a:lnTo>
                      <a:lnTo>
                        <a:pt x="281" y="36"/>
                      </a:lnTo>
                      <a:lnTo>
                        <a:pt x="17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0" name="Freeform 109"/>
              <p:cNvSpPr/>
              <p:nvPr/>
            </p:nvSpPr>
            <p:spPr>
              <a:xfrm>
                <a:off x="3589560" y="3443760"/>
                <a:ext cx="135720" cy="185760"/>
              </a:xfrm>
              <a:custGeom>
                <a:avLst/>
                <a:gdLst>
                  <a:gd name="textAreaLeft" fmla="*/ 0 w 135720"/>
                  <a:gd name="textAreaRight" fmla="*/ 135720 w 135720"/>
                  <a:gd name="textAreaTop" fmla="*/ 0 h 185760"/>
                  <a:gd name="textAreaBottom" fmla="*/ 186120 h 185760"/>
                </a:gdLst>
                <a:ahLst/>
                <a:rect l="textAreaLeft" t="textAreaTop" r="textAreaRight" b="textAreaBottom"/>
                <a:pathLst>
                  <a:path w="155" h="180">
                    <a:moveTo>
                      <a:pt x="0" y="98"/>
                    </a:moveTo>
                    <a:lnTo>
                      <a:pt x="66" y="0"/>
                    </a:lnTo>
                    <a:lnTo>
                      <a:pt x="155" y="98"/>
                    </a:lnTo>
                    <a:lnTo>
                      <a:pt x="80" y="180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" name="Group 110"/>
            <p:cNvGrpSpPr/>
            <p:nvPr/>
          </p:nvGrpSpPr>
          <p:grpSpPr>
            <a:xfrm>
              <a:off x="3425040" y="3124080"/>
              <a:ext cx="2227320" cy="1980720"/>
              <a:chOff x="3425040" y="3124080"/>
              <a:chExt cx="2227320" cy="1980720"/>
            </a:xfrm>
          </p:grpSpPr>
          <p:sp>
            <p:nvSpPr>
              <p:cNvPr id="102" name="Oval 111"/>
              <p:cNvSpPr/>
              <p:nvPr/>
            </p:nvSpPr>
            <p:spPr>
              <a:xfrm>
                <a:off x="4118400" y="3183840"/>
                <a:ext cx="543240" cy="660600"/>
              </a:xfrm>
              <a:prstGeom prst="ellipse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Oval 112"/>
              <p:cNvSpPr/>
              <p:nvPr/>
            </p:nvSpPr>
            <p:spPr>
              <a:xfrm>
                <a:off x="4564080" y="3124080"/>
                <a:ext cx="442440" cy="538920"/>
              </a:xfrm>
              <a:prstGeom prst="ellipse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Oval 113"/>
              <p:cNvSpPr/>
              <p:nvPr/>
            </p:nvSpPr>
            <p:spPr>
              <a:xfrm>
                <a:off x="4960800" y="3663000"/>
                <a:ext cx="691560" cy="842400"/>
              </a:xfrm>
              <a:prstGeom prst="ellipse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Oval 114"/>
              <p:cNvSpPr/>
              <p:nvPr/>
            </p:nvSpPr>
            <p:spPr>
              <a:xfrm>
                <a:off x="3672360" y="4024080"/>
                <a:ext cx="790920" cy="962280"/>
              </a:xfrm>
              <a:prstGeom prst="ellipse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Oval 115"/>
              <p:cNvSpPr/>
              <p:nvPr/>
            </p:nvSpPr>
            <p:spPr>
              <a:xfrm>
                <a:off x="4762440" y="4143960"/>
                <a:ext cx="591120" cy="718920"/>
              </a:xfrm>
              <a:prstGeom prst="ellipse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Oval 116"/>
              <p:cNvSpPr/>
              <p:nvPr/>
            </p:nvSpPr>
            <p:spPr>
              <a:xfrm>
                <a:off x="3474360" y="4206600"/>
                <a:ext cx="444240" cy="536760"/>
              </a:xfrm>
              <a:prstGeom prst="ellipse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Oval 117"/>
              <p:cNvSpPr/>
              <p:nvPr/>
            </p:nvSpPr>
            <p:spPr>
              <a:xfrm>
                <a:off x="3425040" y="3784680"/>
                <a:ext cx="443520" cy="538920"/>
              </a:xfrm>
              <a:prstGeom prst="ellipse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Oval 118"/>
              <p:cNvSpPr/>
              <p:nvPr/>
            </p:nvSpPr>
            <p:spPr>
              <a:xfrm>
                <a:off x="3622680" y="3305520"/>
                <a:ext cx="693720" cy="838440"/>
              </a:xfrm>
              <a:prstGeom prst="ellipse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Oval 119"/>
              <p:cNvSpPr/>
              <p:nvPr/>
            </p:nvSpPr>
            <p:spPr>
              <a:xfrm>
                <a:off x="4217400" y="4264200"/>
                <a:ext cx="691560" cy="840600"/>
              </a:xfrm>
              <a:prstGeom prst="ellipse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Oval 120"/>
              <p:cNvSpPr/>
              <p:nvPr/>
            </p:nvSpPr>
            <p:spPr>
              <a:xfrm>
                <a:off x="5058000" y="3363120"/>
                <a:ext cx="542880" cy="660600"/>
              </a:xfrm>
              <a:prstGeom prst="ellipse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Oval 121"/>
              <p:cNvSpPr/>
              <p:nvPr/>
            </p:nvSpPr>
            <p:spPr>
              <a:xfrm>
                <a:off x="4909320" y="3124080"/>
                <a:ext cx="493920" cy="599040"/>
              </a:xfrm>
              <a:prstGeom prst="ellipse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Freeform 122"/>
              <p:cNvSpPr/>
              <p:nvPr/>
            </p:nvSpPr>
            <p:spPr>
              <a:xfrm>
                <a:off x="3605040" y="3282840"/>
                <a:ext cx="1921680" cy="1565640"/>
              </a:xfrm>
              <a:custGeom>
                <a:avLst/>
                <a:gdLst>
                  <a:gd name="textAreaLeft" fmla="*/ 0 w 1921680"/>
                  <a:gd name="textAreaRight" fmla="*/ 1922040 w 1921680"/>
                  <a:gd name="textAreaTop" fmla="*/ 0 h 1565640"/>
                  <a:gd name="textAreaBottom" fmla="*/ 1566000 h 1565640"/>
                </a:gdLst>
                <a:ahLst/>
                <a:rect l="textAreaLeft" t="textAreaTop" r="textAreaRight" b="textAreaBottom"/>
                <a:pathLst>
                  <a:path w="2172" h="1516">
                    <a:moveTo>
                      <a:pt x="670" y="153"/>
                    </a:moveTo>
                    <a:lnTo>
                      <a:pt x="761" y="43"/>
                    </a:lnTo>
                    <a:lnTo>
                      <a:pt x="1166" y="51"/>
                    </a:lnTo>
                    <a:lnTo>
                      <a:pt x="1454" y="0"/>
                    </a:lnTo>
                    <a:lnTo>
                      <a:pt x="1816" y="182"/>
                    </a:lnTo>
                    <a:lnTo>
                      <a:pt x="1998" y="130"/>
                    </a:lnTo>
                    <a:lnTo>
                      <a:pt x="2095" y="153"/>
                    </a:lnTo>
                    <a:lnTo>
                      <a:pt x="2116" y="602"/>
                    </a:lnTo>
                    <a:lnTo>
                      <a:pt x="2172" y="675"/>
                    </a:lnTo>
                    <a:lnTo>
                      <a:pt x="2005" y="1023"/>
                    </a:lnTo>
                    <a:lnTo>
                      <a:pt x="1823" y="784"/>
                    </a:lnTo>
                    <a:lnTo>
                      <a:pt x="1774" y="908"/>
                    </a:lnTo>
                    <a:lnTo>
                      <a:pt x="1517" y="1386"/>
                    </a:lnTo>
                    <a:lnTo>
                      <a:pt x="657" y="1516"/>
                    </a:lnTo>
                    <a:lnTo>
                      <a:pt x="210" y="1423"/>
                    </a:lnTo>
                    <a:lnTo>
                      <a:pt x="69" y="1125"/>
                    </a:lnTo>
                    <a:lnTo>
                      <a:pt x="69" y="820"/>
                    </a:lnTo>
                    <a:lnTo>
                      <a:pt x="0" y="566"/>
                    </a:lnTo>
                    <a:lnTo>
                      <a:pt x="670" y="15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114" name=""/>
          <p:cNvGraphicFramePr/>
          <p:nvPr/>
        </p:nvGraphicFramePr>
        <p:xfrm>
          <a:off x="380880" y="4648320"/>
          <a:ext cx="3048120" cy="1363680"/>
        </p:xfrm>
        <a:graphic>
          <a:graphicData uri="http://schemas.openxmlformats.org/drawingml/2006/table">
            <a:tbl>
              <a:tblPr/>
              <a:tblGrid>
                <a:gridCol w="3048120"/>
              </a:tblGrid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0000"/>
                          </a:solidFill>
                          <a:latin typeface="Tw Cen MT"/>
                        </a:rPr>
                        <a:t>Same Time / Different Place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ddc3">
                        <a:alpha val="50000"/>
                      </a:srgbClr>
                    </a:solidFill>
                  </a:tcPr>
                </a:tc>
              </a:tr>
              <a:tr h="35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Distance Learning Progra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Videoconferenci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Online Meeting Plac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5638680" y="4648320"/>
          <a:ext cx="3048120" cy="1649160"/>
        </p:xfrm>
        <a:graphic>
          <a:graphicData uri="http://schemas.openxmlformats.org/drawingml/2006/table">
            <a:tbl>
              <a:tblPr/>
              <a:tblGrid>
                <a:gridCol w="3048120"/>
              </a:tblGrid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0000"/>
                          </a:solidFill>
                          <a:latin typeface="Tw Cen MT"/>
                        </a:rPr>
                        <a:t>Different Time / Different Place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ddc3">
                        <a:alpha val="50000"/>
                      </a:srgbClr>
                    </a:solidFill>
                  </a:tcPr>
                </a:tc>
              </a:tr>
              <a:tr h="35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Web-based Learni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Web 2.0 Tool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Digitally Stored Conten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5715000" y="1981080"/>
          <a:ext cx="2971800" cy="1397160"/>
        </p:xfrm>
        <a:graphic>
          <a:graphicData uri="http://schemas.openxmlformats.org/drawingml/2006/table">
            <a:tbl>
              <a:tblPr/>
              <a:tblGrid>
                <a:gridCol w="2971800"/>
              </a:tblGrid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0000"/>
                          </a:solidFill>
                          <a:latin typeface="Tw Cen MT"/>
                        </a:rPr>
                        <a:t>Different Time / Same Place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ddc3">
                        <a:alpha val="50000"/>
                      </a:srgbClr>
                    </a:solidFill>
                  </a:tcPr>
                </a:tc>
              </a:tr>
              <a:tr h="35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Online Collaboration Tool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Individually Paced Activiti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Customized Instructio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" name="Rectangle 176"/>
          <p:cNvSpPr/>
          <p:nvPr/>
        </p:nvSpPr>
        <p:spPr>
          <a:xfrm>
            <a:off x="3809880" y="3429000"/>
            <a:ext cx="16765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w Cen MT"/>
              </a:rPr>
              <a:t>Any Time / Any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w Cen MT"/>
              </a:rPr>
              <a:t>E-Lear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3T18:02:44Z</dcterms:created>
  <dc:creator>Mike Sylofski</dc:creator>
  <dc:description/>
  <dc:language>en-US</dc:language>
  <cp:lastModifiedBy> </cp:lastModifiedBy>
  <dcterms:modified xsi:type="dcterms:W3CDTF">2010-07-19T19:18:35Z</dcterms:modified>
  <cp:revision>48</cp:revision>
  <dc:subject/>
  <dc:title>E-Learning Time-Space Continuum</dc:title>
</cp:coreProperties>
</file>